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EF1-4EC0-4EB9-8258-A4521A91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5A9-8D1E-41B5-BFFB-508AC2E5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71F-B816-4C8E-9C8F-F1BA5043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0B4-2BD2-4B02-986D-F75FF0B6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EFDC-5FE3-4D18-8FB7-E7DD3530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7F3-11C7-46F1-9723-2BA89B35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41C-7B8D-4860-A32D-3D2CFEA9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F57D-C242-443C-A783-A5673AA5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8453-CF3C-4275-B868-ED14410F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2E30-977F-4C96-AB0B-E572487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42D8-3CA4-4433-9ECB-E519C8BB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E97-A9DE-4572-8C77-0BAE2AC5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A8F9-B335-4768-B030-30A72CE9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83BC-501E-4698-83AB-2DBA5601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87C3-0194-4C93-BF82-7B1325F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611C-62BA-4966-8EDA-51A1E0F5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16E1-55F0-4B49-866C-65244BB4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DB5-41CC-4CEE-82E9-A407978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49E-84EF-42CA-903F-838B6241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BB6-5FE1-41D6-AD2E-9A0C1C2A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3E6-F330-4269-9A96-5AD5731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ED2-DF88-4699-8F86-92B9604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A54-95F3-4CDB-9925-F4EFBEB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24A-CAD5-42D1-8B98-895039B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BC2A-77AD-4C45-AF68-AD4904E68CC4}" type="slidenum">
              <a:rPr b="0" lang="en-GB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E361-A014-44F4-B356-81E999098E34}" type="slidenum">
              <a:rPr b="0" lang="en-GB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t.ly/nYzsdp" TargetMode="External"/><Relationship Id="rId2" Type="http://schemas.openxmlformats.org/officeDocument/2006/relationships/hyperlink" Target="http://bit.ly/q4xjmo" TargetMode="External"/><Relationship Id="rId3" Type="http://schemas.openxmlformats.org/officeDocument/2006/relationships/hyperlink" Target="http://bit.ly/nYzsdp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bit.ly/q4xjmo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2852280"/>
            <a:ext cx="835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the difference between wind and insect pollinated pla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w are plants adapted to prevent self pollin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atures of wind and insect pollinated plant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mall or absent green petals (not attractiv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 nec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arge anthers hanging outside the flower to allow pollen to be blown by the wi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arge feathery stigmas hanging outside the flower to catch wind borne poll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arge quantity of light pollen so it can be carried by the wi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arge coloured scented petals to attract ins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ectar to attract ins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nthers positioned in flowers for insects to brush pa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ticky stigmas so that pollen on insects sticks to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arge sticky pollen grains (high chance of sticking to insects and the stigma of another pla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80400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6821640" y="3938760"/>
            <a:ext cx="2151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219096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812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ch of the pictures below represent wind pollinated plants and which represent insect pollinated pla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2"/>
          <a:stretch/>
        </p:blipFill>
        <p:spPr>
          <a:xfrm>
            <a:off x="6622920" y="2852640"/>
            <a:ext cx="2521080" cy="1670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1547640" y="4365720"/>
            <a:ext cx="1541520" cy="231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2987640" y="465300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4002120" y="3141720"/>
            <a:ext cx="2052720" cy="20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6"/>
          <a:stretch/>
        </p:blipFill>
        <p:spPr>
          <a:xfrm>
            <a:off x="6012000" y="4292640"/>
            <a:ext cx="2592360" cy="2205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9"/>
          <p:cNvSpPr txBox="1"/>
          <p:nvPr/>
        </p:nvSpPr>
        <p:spPr>
          <a:xfrm>
            <a:off x="468360" y="43657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20"/>
          <p:cNvSpPr txBox="1"/>
          <p:nvPr/>
        </p:nvSpPr>
        <p:spPr>
          <a:xfrm>
            <a:off x="6084720" y="4437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WordArt 21"/>
          <p:cNvSpPr txBox="1"/>
          <p:nvPr/>
        </p:nvSpPr>
        <p:spPr>
          <a:xfrm>
            <a:off x="3708360" y="5661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WordArt 22"/>
          <p:cNvSpPr txBox="1"/>
          <p:nvPr/>
        </p:nvSpPr>
        <p:spPr>
          <a:xfrm>
            <a:off x="4788000" y="429264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WordArt 23"/>
          <p:cNvSpPr txBox="1"/>
          <p:nvPr/>
        </p:nvSpPr>
        <p:spPr>
          <a:xfrm>
            <a:off x="1763640" y="450864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WordArt 24"/>
          <p:cNvSpPr txBox="1"/>
          <p:nvPr/>
        </p:nvSpPr>
        <p:spPr>
          <a:xfrm>
            <a:off x="8244000" y="29973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LF-pollin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transfer from the plants own anther to its own stigma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less variation and this can lead to inbreeding depression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284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  <a:ea typeface="Arial"/>
              </a:rPr>
              <a:t>Preventing Self Pollin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240000" cy="2755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68360" y="1628640"/>
            <a:ext cx="431964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nthers and stigma mature at different times or are incompat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nthers are below the stigma so pollen does not fall onto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3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llination in Greenhou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y might these tomato plants not produce as many tomatoes as some growing outsi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could the tomato grower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6814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Video resourc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483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The hidden beauty of pollination - http://bit.ly/nYzsd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2"/>
              </a:rPr>
              <a:t>Every pollen grain has a story - http://bit.ly/q4xj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36720" y="1989000"/>
            <a:ext cx="3635280" cy="2048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46080" y="4653000"/>
            <a:ext cx="3635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3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ructure of a flow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A flower is the organ of sexual reproduction in plant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95280" y="3851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5878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3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ructure of a flow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A flower is the organ of sexual reproduction in plant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422600" cy="4659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95280" y="3851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411880" cy="3222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llination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is transfer of pollen from the anther of one plant to the stigma of another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97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627280" y="692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3524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524400" cy="269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74960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276720" y="260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ind Pollinated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227640" y="2133720"/>
            <a:ext cx="25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athery Stigma hanging outside the flower to increase surface area to catch pol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227640" y="37893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hers hanging outside the flower so wind will blow pollen a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95280" y="51577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ts of small, light pollen produced so it can be carried by the w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68360" y="5805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ower small and green and not scented since it does not need to attract ins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1616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95280" y="2297160"/>
            <a:ext cx="3600360" cy="3120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700360" y="333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5292720" y="2292480"/>
            <a:ext cx="360684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040280" cy="3502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700360" y="333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ct Pollinated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413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ightly coloured, scented flowers to attract ins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484360" y="184464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84360" y="4869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thers and stigma inside flower in the best position for the ins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2411280" y="3500280"/>
            <a:ext cx="194472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292720" y="4724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ctar is produced to attract ins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732720" y="155736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mall quantities of large, sticky pollen is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7:48:14Z</dcterms:created>
  <dc:creator/>
  <dc:description/>
  <dc:language>en-US</dc:language>
  <cp:lastModifiedBy>David Harrison</cp:lastModifiedBy>
  <dcterms:modified xsi:type="dcterms:W3CDTF">2021-01-08T15:13:22Z</dcterms:modified>
  <cp:revision>21</cp:revision>
  <dc:subject/>
  <dc:title>Sexual reproduction in plants</dc:title>
</cp:coreProperties>
</file>