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9BD-3000-4395-9E6B-2DFF7AF1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3D0-8656-4A29-A911-19ADE8E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9DB-80FE-4540-9228-2A268FFC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D7F-870C-4B87-8282-47D30133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C94-356C-4EE5-96E4-899375DE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81F-7AE2-4AFD-9049-6D6D38E3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D2C-C48A-43A2-B9F9-5A461C3B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FBE-A424-47E5-8ECC-4D0C5D2C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58F-79EF-40E9-B885-EB794389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DF5-50E8-4B23-805B-9780731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FC0-9B5D-4A10-B533-238AB145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7BE-8040-431A-A296-19D7CFB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3AAB-0406-4FF9-BD80-83BB881A83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vestock bre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.O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1) Be able to describe the aims on selective livestock bree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) Describe crosses using correct genetic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stion - What are A, B, C and D? 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oose from Offspring, Female sex cell (gamete), Male sex cell (gamete) and Fertilised eg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1905120" cy="169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tretch/>
        </p:blipFill>
        <p:spPr>
          <a:xfrm>
            <a:off x="6516720" y="3573360"/>
            <a:ext cx="2376360" cy="1784520"/>
          </a:xfrm>
          <a:prstGeom prst="rect">
            <a:avLst/>
          </a:prstGeom>
          <a:ln w="0">
            <a:noFill/>
          </a:ln>
        </p:spPr>
      </p:pic>
      <p:sp>
        <p:nvSpPr>
          <p:cNvPr id="48" name="Line 7"/>
          <p:cNvSpPr/>
          <p:nvPr/>
        </p:nvSpPr>
        <p:spPr>
          <a:xfrm>
            <a:off x="2268360" y="3500280"/>
            <a:ext cx="935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2268360" y="4797000"/>
            <a:ext cx="935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5292720" y="436572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179280" y="2205000"/>
            <a:ext cx="50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7f7f7f"/>
                  </a:outerShdw>
                </a:effectLst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7f7f7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95280" y="4724280"/>
            <a:ext cx="50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7f7f7f"/>
                  </a:outerShdw>
                </a:effectLst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7f7f7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3132000" y="3068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7f7f7f"/>
                  </a:outerShdw>
                </a:effectLst>
                <a:latin typeface="Arial"/>
              </a:rPr>
              <a:t>C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7f7f7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13"/>
          <p:cNvSpPr txBox="1"/>
          <p:nvPr/>
        </p:nvSpPr>
        <p:spPr>
          <a:xfrm>
            <a:off x="6300720" y="2997360"/>
            <a:ext cx="57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7f7f7f"/>
                  </a:outerShdw>
                </a:effectLst>
                <a:latin typeface="Arial"/>
              </a:rPr>
              <a:t>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7f7f7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ch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1. Stronge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. Hom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2. Weake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.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3. Sam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. Heter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4. Differe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. Re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y carry out breeding programmes for farmed livesto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lective br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reeding the best individuals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reed together to improve the standard of the b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ross br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reeding individuals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reeds together to combine the best features of both breeds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.e. crossing beef cattle with da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867280" y="2565360"/>
            <a:ext cx="3276720" cy="16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6227640" y="4653000"/>
            <a:ext cx="2916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ctors that may be targeted by 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eas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ard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py these down and summarise what each of them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7524720" y="1052640"/>
            <a:ext cx="1123920" cy="116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708360" y="2421000"/>
            <a:ext cx="1967040" cy="154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557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ohybrid crosses</a:t>
            </a:r>
            <a:br>
              <a:rPr sz="4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osses looking at one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or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bull is heterozygous (two different genes) for big muscles. This is a dominant character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ni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ow is homozygous (two genes the same) for a bony build. This i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would the two cattle's genotypes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would the punet square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780000" y="4941720"/>
            <a:ext cx="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276720" y="5445000"/>
            <a:ext cx="20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6156360" y="5172120"/>
            <a:ext cx="2879640" cy="146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208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ve Breeding</a:t>
            </a:r>
            <a:br>
              <a:rPr sz="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63640" y="4475160"/>
            <a:ext cx="3159000" cy="215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4788000" y="4481640"/>
            <a:ext cx="3141720" cy="2376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755640" y="990000"/>
            <a:ext cx="7632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where breeders choose the best plants or animals for bree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im is to produce offspring with the best characteristics of both parents and so improve the breed. By doing this over several generations breeds can change significa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Jungle fowl ancestor of the modern laying hen lay on average 16 eggs a year. The modern hybrid laying hen can lay over 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ttle selective breeding has produced extreme beef cattle like the Belgian Blue and extreme dairy cattle like the Friesian Hols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894240" y="42832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py and complet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ing key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oris is a Belgium blue with two different genes for muscle. This means he is ________. His genotype is __. Muscles are a dominant characteristic so his phenotype is ______. This means bony is a _______ character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en Boris the bull was bred with Annie the cow, Annie has _____ that can combine with Boris’s to give offspring with the best of both their breeds. This is ______ bree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8:07:40Z</dcterms:created>
  <dc:creator/>
  <dc:description/>
  <dc:language>en-US</dc:language>
  <cp:lastModifiedBy>David Harrison</cp:lastModifiedBy>
  <dcterms:modified xsi:type="dcterms:W3CDTF">2021-02-24T17:14:13Z</dcterms:modified>
  <cp:revision>8</cp:revision>
  <dc:subject/>
  <dc:title>Livestock breeding</dc:title>
</cp:coreProperties>
</file>