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1B29-1C50-4517-84D4-2EFA08396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A84A-36CE-440C-A791-11852A5F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0CE1-6E33-4951-9BBD-B32362AC0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907C-3B3B-4F05-94BE-0021DA8CC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0DE4-78B8-481B-ACF5-5174E754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FA31-1D82-461D-98E6-C5D8BB5F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EF32-D27C-49D0-9EBC-072A36BE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41B9-267B-406B-89E5-A4E686DD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089C-4E4F-4182-91A3-C099837D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56D6-9278-4523-A9BC-10D8B754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63B4-F88F-49F5-ADBF-8E7A2560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5313-6368-423A-904E-F331C333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6DCB-644E-4148-A5B5-31DDFCD9B2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abdn.ac.uk/organic/Images/doorway1b.jpg&amp;imgrefurl=http://www.abdn.ac.uk/organic/organic_17_2.php&amp;h=165&amp;w=158&amp;sz=10&amp;hl=en&amp;start=7&amp;tbnid=0VzexWsElmXx-M:&amp;tbnh=99&amp;tbnw=95&amp;prev=/images%3Fq%3Dcalf%2Bwith%2Bpneumonia%26svnum%3D10%26hl%3Den%26lr%3D%26sa%3DX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lf Rearing Lesson</a:t>
            </a:r>
            <a:br>
              <a:rPr sz="4000"/>
            </a:br>
            <a:r>
              <a:rPr b="1" lang="en-GB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w are we going to care for the farms’ newest two arriv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8920" y="2781360"/>
            <a:ext cx="46436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L.O. 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1) Be able to describe the feeding pattern to be followed by the cal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2) Know the problems that can be encountered when rearing dairy cal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4859280" y="2781360"/>
            <a:ext cx="403380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9730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ur calves history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604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ur two Jersey Girls are a couple of weeks old and would usually have got here a week or so earlier, BUT, their mothers h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stiti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99"/>
                </a:solidFill>
                <a:latin typeface="Arial"/>
                <a:ea typeface="Arial"/>
              </a:rPr>
              <a:t>What does this mean for the calv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others milk contains lumps and their teats are swollen. They are treated with antibio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99"/>
                </a:solidFill>
                <a:latin typeface="Arial"/>
                <a:ea typeface="Arial"/>
              </a:rPr>
              <a:t>Can we give the milk to huma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 we cannot put either lumpy or antibiotic containing milk into the human food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99"/>
                </a:solidFill>
                <a:latin typeface="Arial"/>
                <a:ea typeface="Arial"/>
              </a:rPr>
              <a:t>So what happened to the mil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alves stayed at their home farm a bit longer, drank their mothers milk and got a free dose of antibiotic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cc"/>
                </a:solidFill>
                <a:latin typeface="Arial"/>
                <a:ea typeface="Arial"/>
              </a:rPr>
              <a:t>Write this story from the perspective of the farmer who owns these calves including all the advantages and disadvantages faced by the farmer.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rcRect l="0" t="0" r="0" b="14368"/>
          <a:stretch/>
        </p:blipFill>
        <p:spPr>
          <a:xfrm>
            <a:off x="6227640" y="189000"/>
            <a:ext cx="2729160" cy="1871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2"/>
          <a:stretch/>
        </p:blipFill>
        <p:spPr>
          <a:xfrm>
            <a:off x="7093080" y="2133720"/>
            <a:ext cx="185256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tential health problems for cal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cc"/>
                </a:solidFill>
                <a:latin typeface="Arial"/>
                <a:ea typeface="Arial"/>
              </a:rPr>
              <a:t>Scour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type of diarrhoea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aused by too much rich food in the young calves stomach. Can be treated with lectade (less rich milk substitu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cc"/>
                </a:solidFill>
                <a:latin typeface="Arial"/>
                <a:ea typeface="Arial"/>
              </a:rPr>
              <a:t>Pneumoni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Cold / flu-like condition)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an be prevented by ensuring free air movement all around the cal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cc"/>
                </a:solidFill>
                <a:latin typeface="Arial"/>
                <a:ea typeface="Arial"/>
              </a:rPr>
              <a:t>Navel sucking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an lead to a hernia. Can be treated with a foul tasting spray and then an antibiotic spr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1341360"/>
            <a:ext cx="2210040" cy="2303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3"/>
          <a:stretch/>
        </p:blipFill>
        <p:spPr>
          <a:xfrm>
            <a:off x="6516720" y="3933720"/>
            <a:ext cx="237636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ur calves feeding reg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ur two calves will get through one bag of milk substitute between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ilst they are being fed this they will be given as much Calf-Crunch (hard food) and hay (fibre) as they will take (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d li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). This is to stimulate their young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umen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complex cattle digestive syst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nce they are taking aroun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1kg of food per day eac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(enough to supply their energy needs) the milk will be withdra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468360" y="5084640"/>
            <a:ext cx="7848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183528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493236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547640" y="5589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2 w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4643280" y="551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5 w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179280" y="602136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spcBef>
                <a:spcPts val="1125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9999"/>
                </a:solidFill>
                <a:latin typeface="Arial"/>
                <a:ea typeface="Arial"/>
              </a:rPr>
              <a:t>Complete this feeding time line showing what the calves are eating at each st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468360" y="508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250920" y="5516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i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7812000" y="508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7380360" y="5445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ext s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structions for making up f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627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gredi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– Milk powder and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alves will need 2 litres of milk each, morning and afterno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  <a:ea typeface="Arial"/>
              </a:rPr>
              <a:t>Put 4.0 litres of water in a bucket at just over 42 degrees Celsi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  <a:ea typeface="Arial"/>
              </a:rPr>
              <a:t>Put three scoops of milk powder into the buck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  <a:ea typeface="Arial"/>
              </a:rPr>
              <a:t>Whisk it up breaking up any lumps of milk pow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  <a:ea typeface="Arial"/>
              </a:rPr>
              <a:t>Go to feed the cal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  <a:ea typeface="Arial"/>
              </a:rPr>
              <a:t>Pour equally into two buck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  <a:ea typeface="Arial"/>
              </a:rPr>
              <a:t>Clean everything off thoroughly when finis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6227640" y="1341360"/>
            <a:ext cx="277020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ckler Cal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52680" y="1600200"/>
            <a:ext cx="6038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Suckle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 adult cow is used to rear the ca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 has one calf of her own and we foster a second calf on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rear beef calves using this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alves stay with her until they are fully wea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18:17:25Z</dcterms:created>
  <dc:creator/>
  <dc:description/>
  <dc:language>en-US</dc:language>
  <cp:lastModifiedBy>David Harrison</cp:lastModifiedBy>
  <dcterms:modified xsi:type="dcterms:W3CDTF">2021-02-23T16:13:24Z</dcterms:modified>
  <cp:revision>9</cp:revision>
  <dc:subject/>
  <dc:title>Calve Care Lesson How are we going to care for the farms’ newest two arrivals?</dc:title>
</cp:coreProperties>
</file>