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8F5-2A74-467F-ABA6-4F9F974B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335-FE04-43E0-8060-9D8D8C02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E18-46B5-47C4-85D6-D3F05B07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0B1-BA8B-4933-9491-08459F9C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6AE-7BDB-45F2-978D-BF47526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CF3-E2DF-492B-9E13-DFB7B082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B76-53BA-45BE-ACFE-485C0361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00F-EA9D-42F4-A146-2516FC99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398-C927-4A73-B8DE-4D24E6FE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163-8892-45D4-96D9-1AE4812E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D01-F4E1-499A-A54C-1379FAE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20F-91E8-40F2-B43B-79378F8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EEE-7318-4B19-876B-F4285D7935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.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) Describe the process of genetic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) Be aware of the Pro.s and Con.s genetic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R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- What do you understand by the term genetic engine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means to artificially alter the genes possessed by an 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by removing a gene from one organism and inserting it in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etic engineering in agri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68144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genetically engineer an organism we say we are creating a GM (genetically modified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types of genetic engine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the genes are removed from an organism modified in the laboratory and put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 genes from a different species are introduced into the organism being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7164360" y="2997360"/>
            <a:ext cx="185724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Genetically Modified Tomato"/>
          <p:cNvPicPr/>
          <p:nvPr/>
        </p:nvPicPr>
        <p:blipFill>
          <a:blip r:embed="rId3"/>
          <a:stretch/>
        </p:blipFill>
        <p:spPr>
          <a:xfrm>
            <a:off x="5148360" y="3789360"/>
            <a:ext cx="1989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at are the social and ethical issues surrounding Genetic Engine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plants and animals be disease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enable them to be more produ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e we blurring the lines between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 known health risks associated with GM foo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 long-term effects on the environment of GM organisms/product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f we transfer something ‘bad’ unintention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How might genetic modifica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GM help feed the wor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w might GM help farmers produce more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w might GM help farmers reduce pol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w might GM help farmers grow in places we cannot grow foo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hy might farmers not want to grow GM cr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8:19:27Z</dcterms:created>
  <dc:creator/>
  <dc:description/>
  <dc:language>en-US</dc:language>
  <cp:lastModifiedBy>David Harrison</cp:lastModifiedBy>
  <dcterms:modified xsi:type="dcterms:W3CDTF">2021-02-24T17:13:52Z</dcterms:modified>
  <cp:revision>5</cp:revision>
  <dc:subject/>
  <dc:title>Genetic engineering</dc:title>
</cp:coreProperties>
</file>