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4E31A-AFA3-4F8C-8E6F-A48D54639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FC8BB-49F3-49E7-9059-486D9EA74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7F62F-E42B-4A37-94AF-CA900FB9E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08C10-7043-4932-BB42-0CF1F747F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9DD7D08C-9C25-4E76-AE4B-43613D1F65B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108620E-2485-4D89-AA4D-F9CE502037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ECD85DB-8EB2-4836-9E7C-00EA76F832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1488283-8CCD-4C86-B8FA-82092B19B2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BAAE39F-3706-4300-A42B-570809E0FFC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5315056E-3A44-4704-958B-0576E6BB2DE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91AE25C-2E9B-44D9-89AE-8C5B4723D1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263F4-2825-4646-AEED-44F3B80F7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24ABF9A-18CF-43D2-8512-816B9A3BD8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9A8C021-E8E1-499F-A8FC-DB1838ED795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3476D6E-FF70-4F61-A6D9-6908F92C67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6767585E-B378-4475-9966-1ACE22EC1ED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53F310F1-C007-406C-AA0D-9DB502B9972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CBDBF-030F-4551-A8EA-3FB7FDF22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CB16-A3DF-4C6A-A14D-4267435A5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440F2-F4DA-45FE-B83A-15CB0D2D6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F4A6-7307-4277-9C6A-8938424C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CECF1-BCE4-421C-A183-35025CEE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8B40-20AA-4968-B039-A43DC5B39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24134-3108-4D78-894A-BED546B40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D9166-22A4-4C07-A4D1-9A92020187B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sldNum" idx="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65F9A-05DD-4672-8764-C26D343CF09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 name="PlaceHolder 4"/>
          <p:cNvSpPr>
            <a:spLocks noGrp="1"/>
          </p:cNvSpPr>
          <p:nvPr>
            <p:ph type="dt" idx="5"/>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ftr" idx="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uk/imgres?imgurl=http://www.nadis.org.uk/quiz/Calving%2520(1).jpg&amp;imgrefurl=http://www.nadis.org.uk/quiz/calving.asp&amp;usg=__qo_2x94VVYczHDqZ2BMwEjiV1s4=&amp;h=330&amp;w=350&amp;sz=44&amp;hl=en&amp;start=8&amp;tbnid=3WjkFN833aE66M:&amp;tbnh=113&amp;tbnw=120&amp;prev=/images%3Fq%3DCalving%26gbv%3D2%26hl%3Den%26sa%3D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26920" y="476280"/>
            <a:ext cx="7772400" cy="1736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Arial"/>
                <a:ea typeface="Arial"/>
              </a:rPr>
              <a:t>Care during Calving</a:t>
            </a:r>
            <a:endParaRPr b="0" lang="en-US" sz="6000" spc="-1" strike="noStrike">
              <a:solidFill>
                <a:srgbClr val="000000"/>
              </a:solidFill>
              <a:latin typeface="Calibri Light"/>
            </a:endParaRPr>
          </a:p>
        </p:txBody>
      </p:sp>
      <p:pic>
        <p:nvPicPr>
          <p:cNvPr id="83" name="Picture 7" descr="">
            <a:hlinkClick r:id="rId1"/>
          </p:cNvPr>
          <p:cNvPicPr/>
          <p:nvPr/>
        </p:nvPicPr>
        <p:blipFill>
          <a:blip r:embed="rId2"/>
          <a:stretch/>
        </p:blipFill>
        <p:spPr>
          <a:xfrm>
            <a:off x="2660760" y="2349360"/>
            <a:ext cx="4105080" cy="386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Using rope assistance</a:t>
            </a:r>
            <a:endParaRPr b="0" lang="en-US" sz="4400" spc="-1" strike="noStrike">
              <a:solidFill>
                <a:srgbClr val="000000"/>
              </a:solidFill>
              <a:latin typeface="Calibri Light"/>
            </a:endParaRPr>
          </a:p>
        </p:txBody>
      </p:sp>
      <p:pic>
        <p:nvPicPr>
          <p:cNvPr id="103" name="Picture 4" descr="Applying traction at delivery by walking-out the shoulders"/>
          <p:cNvPicPr/>
          <p:nvPr/>
        </p:nvPicPr>
        <p:blipFill>
          <a:blip r:embed="rId1"/>
          <a:stretch/>
        </p:blipFill>
        <p:spPr>
          <a:xfrm>
            <a:off x="2851200" y="2649600"/>
            <a:ext cx="3441600" cy="270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alves in the wrong position</a:t>
            </a:r>
            <a:endParaRPr b="0" lang="en-US" sz="4400" spc="-1" strike="noStrike">
              <a:solidFill>
                <a:srgbClr val="000000"/>
              </a:solidFill>
              <a:latin typeface="Calibri Light"/>
            </a:endParaRPr>
          </a:p>
        </p:txBody>
      </p:sp>
      <p:sp>
        <p:nvSpPr>
          <p:cNvPr id="10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f the calf is badly placed then the farmer or vet will need to correct i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can involve turning the calf or pulling its legs forward and can harm the calf or mother if not done correct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Twins</a:t>
            </a:r>
            <a:endParaRPr b="0" lang="en-US" sz="4400" spc="-1" strike="noStrike">
              <a:solidFill>
                <a:srgbClr val="000000"/>
              </a:solidFill>
              <a:latin typeface="Calibri Light"/>
            </a:endParaRPr>
          </a:p>
        </p:txBody>
      </p:sp>
      <p:sp>
        <p:nvSpPr>
          <p:cNvPr id="10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Not normally a problem as twins are usually smalle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an be a problem if the calves become entang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are after calving</a:t>
            </a:r>
            <a:endParaRPr b="0" lang="en-US" sz="4400" spc="-1" strike="noStrike">
              <a:solidFill>
                <a:srgbClr val="000000"/>
              </a:solidFill>
              <a:latin typeface="Calibri Light"/>
            </a:endParaRPr>
          </a:p>
        </p:txBody>
      </p:sp>
      <p:sp>
        <p:nvSpPr>
          <p:cNvPr id="109"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nce delivered, clear any mucus from the calf's mouth and throat with your hand. Then, if necessary, stimulate the calf to breathe by either rubbing it briskly, tickling the inside of the nostril with a straw or slapping it with the flat of the hand.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tificial respiration can be applied to the calf as follows: place a short section of garden hose into one nostril, hold mouth and nostrils shut so air enters and leaves only through the hose, then alternately blow into the hose and allow expiration of air. Repeat at 5- to 7-second intervals until the calf begins to breath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5000"/>
            <a:ext cx="8229600" cy="53690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Once the calf is breathing check:</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1. The cow has bonded with the calf – she will start to lick the calf clean.</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 The calf is healthy and normal.</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3. It has started to feed.</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Feeding</a:t>
            </a:r>
            <a:endParaRPr b="0" lang="en-US" sz="4400" spc="-1" strike="noStrike">
              <a:solidFill>
                <a:srgbClr val="000000"/>
              </a:solidFill>
              <a:latin typeface="Calibri Light"/>
            </a:endParaRPr>
          </a:p>
        </p:txBody>
      </p:sp>
      <p:sp>
        <p:nvSpPr>
          <p:cNvPr id="112" name=""/>
          <p:cNvSpPr txBox="1"/>
          <p:nvPr/>
        </p:nvSpPr>
        <p:spPr>
          <a:xfrm>
            <a:off x="457200" y="1341000"/>
            <a:ext cx="8229600" cy="4792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first milk produced by the cow is called colostrum. This is rich in fat and protein and contains the mother’s antibodies to help protect the calf from diseas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calf should have access to hay (to start the rumen), clean water, and if removed from the mother, calf concentrate mix.</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f on milk powder the milk given will be reduced gradually until the calf is weaned (eating only solid foo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Arial"/>
              </a:rPr>
              <a:t>Stages of calving (Parturition)</a:t>
            </a:r>
            <a:br>
              <a:rPr sz="4000"/>
            </a:br>
            <a:endParaRPr b="0" lang="en-US" sz="40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Normal calving can be divided into three general stages -- </a:t>
            </a:r>
            <a:r>
              <a:rPr b="1" lang="en-GB" sz="2800" spc="-1" strike="noStrike">
                <a:solidFill>
                  <a:srgbClr val="000000"/>
                </a:solidFill>
                <a:latin typeface="Arial"/>
                <a:ea typeface="Arial"/>
              </a:rPr>
              <a:t>preparatory</a:t>
            </a:r>
            <a:r>
              <a:rPr b="0" lang="en-GB" sz="2800" spc="-1" strike="noStrike">
                <a:solidFill>
                  <a:srgbClr val="000000"/>
                </a:solidFill>
                <a:latin typeface="Arial"/>
                <a:ea typeface="Arial"/>
              </a:rPr>
              <a:t>, </a:t>
            </a:r>
            <a:r>
              <a:rPr b="1" lang="en-GB" sz="2800" spc="-1" strike="noStrike">
                <a:solidFill>
                  <a:srgbClr val="000000"/>
                </a:solidFill>
                <a:latin typeface="Arial"/>
                <a:ea typeface="Arial"/>
              </a:rPr>
              <a:t>foetal expulsion </a:t>
            </a:r>
            <a:r>
              <a:rPr b="0" lang="en-GB" sz="2800" spc="-1" strike="noStrike">
                <a:solidFill>
                  <a:srgbClr val="000000"/>
                </a:solidFill>
                <a:latin typeface="Arial"/>
                <a:ea typeface="Arial"/>
              </a:rPr>
              <a:t>and </a:t>
            </a:r>
            <a:r>
              <a:rPr b="1" lang="en-GB" sz="2800" spc="-1" strike="noStrike">
                <a:solidFill>
                  <a:srgbClr val="000000"/>
                </a:solidFill>
                <a:latin typeface="Arial"/>
                <a:ea typeface="Arial"/>
              </a:rPr>
              <a:t>expulsion of the placenta </a:t>
            </a:r>
            <a:r>
              <a:rPr b="0" lang="en-GB" sz="2800" spc="-1" strike="noStrike">
                <a:solidFill>
                  <a:srgbClr val="000000"/>
                </a:solidFill>
                <a:latin typeface="Arial"/>
                <a:ea typeface="Arial"/>
              </a:rPr>
              <a:t>or afterbirth. The time interval of each stage varies among types and breeds of cattle and among individuals of the same bre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2290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Stages and Timing</a:t>
            </a:r>
            <a:br>
              <a:rPr sz="4000"/>
            </a:br>
            <a:r>
              <a:rPr b="0" lang="en-GB" sz="4000" spc="-1" strike="noStrike">
                <a:solidFill>
                  <a:srgbClr val="000000"/>
                </a:solidFill>
                <a:latin typeface="Arial"/>
                <a:ea typeface="Arial"/>
              </a:rPr>
              <a:t>1. Preparation</a:t>
            </a:r>
            <a:br>
              <a:rPr sz="4000"/>
            </a:br>
            <a:r>
              <a:rPr b="0" lang="en-GB" sz="4000" spc="-1" strike="noStrike">
                <a:solidFill>
                  <a:srgbClr val="000000"/>
                </a:solidFill>
                <a:latin typeface="Arial"/>
                <a:ea typeface="Arial"/>
              </a:rPr>
              <a:t>(2 to 6 hours)</a:t>
            </a:r>
            <a:br>
              <a:rPr sz="4000"/>
            </a:br>
            <a:endParaRPr b="0" lang="en-US" sz="4000" spc="-1" strike="noStrike">
              <a:solidFill>
                <a:srgbClr val="000000"/>
              </a:solidFill>
              <a:latin typeface="Calibri Light"/>
            </a:endParaRPr>
          </a:p>
        </p:txBody>
      </p:sp>
      <p:sp>
        <p:nvSpPr>
          <p:cNvPr id="87" name=""/>
          <p:cNvSpPr txBox="1"/>
          <p:nvPr/>
        </p:nvSpPr>
        <p:spPr>
          <a:xfrm>
            <a:off x="457200" y="2492280"/>
            <a:ext cx="8229600" cy="36417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1. Calf rotates to upright position.</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 Uterine contractions begin.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3. Water sac expel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Normal position of calf before birth</a:t>
            </a:r>
            <a:endParaRPr b="0" lang="en-US" sz="4000" spc="-1" strike="noStrike">
              <a:solidFill>
                <a:srgbClr val="000000"/>
              </a:solidFill>
              <a:latin typeface="Calibri Light"/>
            </a:endParaRPr>
          </a:p>
        </p:txBody>
      </p:sp>
      <p:pic>
        <p:nvPicPr>
          <p:cNvPr id="89" name="Picture 4" descr="Normal calf position prior to delivery"/>
          <p:cNvPicPr/>
          <p:nvPr/>
        </p:nvPicPr>
        <p:blipFill>
          <a:blip r:embed="rId1"/>
          <a:stretch/>
        </p:blipFill>
        <p:spPr>
          <a:xfrm>
            <a:off x="2946240" y="2604960"/>
            <a:ext cx="3251520" cy="27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2. Delivery </a:t>
            </a:r>
            <a:br>
              <a:rPr sz="4400"/>
            </a:br>
            <a:r>
              <a:rPr b="0" lang="en-GB" sz="4400" spc="-1" strike="noStrike">
                <a:solidFill>
                  <a:srgbClr val="000000"/>
                </a:solidFill>
                <a:latin typeface="Arial"/>
                <a:ea typeface="Arial"/>
              </a:rPr>
              <a:t>(1 hour or less)</a:t>
            </a:r>
            <a:endParaRPr b="0" lang="en-US" sz="44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1. Cow usually lying down.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 Foetus enters birth canal.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3. Front feet and head protrude firs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4. Calf delivery completed.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3. Cleaning </a:t>
            </a:r>
            <a:br>
              <a:rPr sz="4400"/>
            </a:br>
            <a:r>
              <a:rPr b="0" lang="en-GB" sz="4400" spc="-1" strike="noStrike">
                <a:solidFill>
                  <a:srgbClr val="000000"/>
                </a:solidFill>
                <a:latin typeface="Arial"/>
                <a:ea typeface="Arial"/>
              </a:rPr>
              <a:t>(2 to 8 hours)</a:t>
            </a:r>
            <a:endParaRPr b="0" lang="en-US" sz="44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1. Umbilical cord attachments relax.</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 Uterine contractions expel membranes e.g. the placenta.</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Problems With Calving</a:t>
            </a:r>
            <a:endParaRPr b="0" lang="en-US" sz="4400" spc="-1" strike="noStrike">
              <a:solidFill>
                <a:srgbClr val="000000"/>
              </a:solidFill>
              <a:latin typeface="Calibri Light"/>
            </a:endParaRPr>
          </a:p>
        </p:txBody>
      </p:sp>
      <p:sp>
        <p:nvSpPr>
          <p:cNvPr id="9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Normal calving takes no more than 1 hour in a mature cow, 2-3 hours in a young heifer. If prolonged, the calf may be born dead or in a weakened condi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re are three main causes of problem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1. The calf is too big for the cow.</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 The cow is too young or too smal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3. The foetus is in the wrong posi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Badly positioned calves.</a:t>
            </a:r>
            <a:endParaRPr b="0" lang="en-US" sz="4400" spc="-1" strike="noStrike">
              <a:solidFill>
                <a:srgbClr val="000000"/>
              </a:solidFill>
              <a:latin typeface="Calibri Light"/>
            </a:endParaRPr>
          </a:p>
        </p:txBody>
      </p:sp>
      <p:pic>
        <p:nvPicPr>
          <p:cNvPr id="97" name="Picture 6" descr=""/>
          <p:cNvPicPr/>
          <p:nvPr/>
        </p:nvPicPr>
        <p:blipFill>
          <a:blip r:embed="rId1"/>
          <a:stretch/>
        </p:blipFill>
        <p:spPr>
          <a:xfrm>
            <a:off x="1104840" y="1703520"/>
            <a:ext cx="2743200" cy="1984320"/>
          </a:xfrm>
          <a:prstGeom prst="rect">
            <a:avLst/>
          </a:prstGeom>
          <a:ln w="0">
            <a:noFill/>
          </a:ln>
        </p:spPr>
      </p:pic>
      <p:pic>
        <p:nvPicPr>
          <p:cNvPr id="98" name="Picture 8" descr=""/>
          <p:cNvPicPr/>
          <p:nvPr/>
        </p:nvPicPr>
        <p:blipFill>
          <a:blip r:embed="rId2"/>
          <a:stretch/>
        </p:blipFill>
        <p:spPr>
          <a:xfrm>
            <a:off x="5295960" y="1703520"/>
            <a:ext cx="2743200" cy="1984320"/>
          </a:xfrm>
          <a:prstGeom prst="rect">
            <a:avLst/>
          </a:prstGeom>
          <a:ln w="0">
            <a:noFill/>
          </a:ln>
        </p:spPr>
      </p:pic>
      <p:pic>
        <p:nvPicPr>
          <p:cNvPr id="99" name="Picture 10" descr="Abnormal positions of the calf for delivery"/>
          <p:cNvPicPr/>
          <p:nvPr/>
        </p:nvPicPr>
        <p:blipFill>
          <a:blip r:embed="rId3"/>
          <a:stretch/>
        </p:blipFill>
        <p:spPr>
          <a:xfrm>
            <a:off x="324000" y="1916280"/>
            <a:ext cx="4638600" cy="365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Assisting Calving</a:t>
            </a:r>
            <a:endParaRPr b="0" lang="en-US" sz="4400" spc="-1" strike="noStrike">
              <a:solidFill>
                <a:srgbClr val="000000"/>
              </a:solidFill>
              <a:latin typeface="Calibri Light"/>
            </a:endParaRPr>
          </a:p>
        </p:txBody>
      </p:sp>
      <p:sp>
        <p:nvSpPr>
          <p:cNvPr id="101"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ometimes normal calves may have to be helped to be born, particularly if the mother is small or the calf larg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Vaseline may be used to help with lubrication.</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Ropes attached to the calves legs may be used to assist the calves shoulders passing the cows pelv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9:41:03Z</dcterms:created>
  <dc:creator>wedgwood</dc:creator>
  <dc:description/>
  <dc:language>en-US</dc:language>
  <cp:lastModifiedBy>David Harrison</cp:lastModifiedBy>
  <dcterms:modified xsi:type="dcterms:W3CDTF">2021-02-23T16:22:54Z</dcterms:modified>
  <cp:revision>10</cp:revision>
  <dc:subject/>
  <dc:title>Care during Calving</dc:title>
</cp:coreProperties>
</file>