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5282-20F6-4FC4-8DA3-3ACF4C4F7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8501-FE70-4FCE-9010-B77DD8309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3197-499B-43A3-BDE6-8678B40F4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C230-6876-4C83-A18D-A6D95F804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5438-750D-4BF0-A962-42FBFC8A0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B066-A6F6-41C0-A69C-8743EBF3B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66A5-ABF6-4956-A98C-CF8E1D74F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496F-1AE8-4445-837E-22E588732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622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9F07-E1DF-439C-8DCC-DD3057E77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A08A-25EA-4ECA-A0DB-28176CB4F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7E0B-51FB-408C-BAD6-3948BA8AA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C025-FB36-42F6-A41D-C7BE7B2CA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CC75-E22D-45B4-9DBB-63CA6B985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A1DA-FBEB-4F35-9A98-AB3144907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BEE5-AD8E-4741-A59A-B6A6F318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95E3-6960-40BD-A174-30D9A403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E92-34CA-4517-9CCD-D8B7B4AD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116-A5AD-4910-8F03-D3D6B3E3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18C-8207-49D8-940D-D948BE58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E67-ED15-4570-BF59-9B6F24E4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487-D5A1-4E17-8960-5EA786FA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BFCA-BCE6-438F-AFFA-36FC741D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45B0-3067-44B6-A803-CC977C18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733-9CFC-4F5C-86AB-DE935576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8C4-3F57-4361-9579-A265584D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A90-09DB-44B5-A613-BDB8A29F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54D4-0A7F-429D-8525-CA153EEE3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image" Target="../media/image4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16000" y="980640"/>
            <a:ext cx="6400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What is meant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henoty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mina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590400" y="139536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28880" y="3440160"/>
            <a:ext cx="197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23560" y="24177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735280" y="143028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tion of DNA that codes for a particular  characteri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2760840" y="244944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enes that cause a characteri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7524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738880" y="344016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the organism looks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205560" y="437688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2735280" y="4317840"/>
            <a:ext cx="65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characteristic that wil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 expressed, represented by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pital lett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265680" y="5313240"/>
            <a:ext cx="18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2735280" y="5403960"/>
            <a:ext cx="607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haracteristic that will only be expressed when two are present, represented by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wer case lett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150840" y="59220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2786040" y="711360"/>
            <a:ext cx="62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trand of DNA that carries the 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1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1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1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1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8" dur="1" fill="hold"/>
                                  <p:tgtEl>
                                    <p:spTgt spid="2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1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5022720" y="41162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755640" y="3735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eno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6920" y="5564160"/>
            <a:ext cx="19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o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48000" y="5589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6167520" y="5589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324000" y="11253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min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ele for these flowers, so the alleles for petal colour ar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ellow =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RR x r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0" descr=""/>
          <p:cNvPicPr/>
          <p:nvPr/>
        </p:nvPicPr>
        <p:blipFill>
          <a:blip r:embed="rId1"/>
          <a:srcRect l="34360" t="18898" r="34360" b="18898"/>
          <a:stretch/>
        </p:blipFill>
        <p:spPr>
          <a:xfrm>
            <a:off x="5681520" y="3394080"/>
            <a:ext cx="1636920" cy="2368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"/>
          <p:cNvPicPr/>
          <p:nvPr/>
        </p:nvPicPr>
        <p:blipFill>
          <a:blip r:embed="rId2"/>
          <a:srcRect l="41231" t="18898" r="34360" b="18898"/>
          <a:stretch/>
        </p:blipFill>
        <p:spPr>
          <a:xfrm>
            <a:off x="3214800" y="3357720"/>
            <a:ext cx="12780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901960" y="8938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743200" y="1757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-36360" y="8841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ental geno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930240" y="17575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me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3276720" y="2803680"/>
            <a:ext cx="3124080" cy="2209680"/>
            <a:chOff x="3276720" y="2803680"/>
            <a:chExt cx="3124080" cy="2209680"/>
          </a:xfrm>
        </p:grpSpPr>
        <p:sp>
          <p:nvSpPr>
            <p:cNvPr id="226" name="Line 7"/>
            <p:cNvSpPr/>
            <p:nvPr/>
          </p:nvSpPr>
          <p:spPr>
            <a:xfrm>
              <a:off x="4191120" y="2803680"/>
              <a:ext cx="0" cy="2209680"/>
            </a:xfrm>
            <a:prstGeom prst="line">
              <a:avLst/>
            </a:prstGeom>
            <a:ln cap="sq"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8"/>
            <p:cNvSpPr/>
            <p:nvPr/>
          </p:nvSpPr>
          <p:spPr>
            <a:xfrm>
              <a:off x="5257800" y="2803680"/>
              <a:ext cx="0" cy="2209680"/>
            </a:xfrm>
            <a:prstGeom prst="line">
              <a:avLst/>
            </a:prstGeom>
            <a:ln cap="sq"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9"/>
            <p:cNvSpPr/>
            <p:nvPr/>
          </p:nvSpPr>
          <p:spPr>
            <a:xfrm>
              <a:off x="6400800" y="2803680"/>
              <a:ext cx="0" cy="2209680"/>
            </a:xfrm>
            <a:prstGeom prst="line">
              <a:avLst/>
            </a:prstGeom>
            <a:ln cap="sq"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0"/>
            <p:cNvSpPr/>
            <p:nvPr/>
          </p:nvSpPr>
          <p:spPr>
            <a:xfrm flipH="1">
              <a:off x="3276720" y="3489480"/>
              <a:ext cx="3124080" cy="0"/>
            </a:xfrm>
            <a:prstGeom prst="line">
              <a:avLst/>
            </a:prstGeom>
            <a:ln cap="sq"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1"/>
            <p:cNvSpPr/>
            <p:nvPr/>
          </p:nvSpPr>
          <p:spPr>
            <a:xfrm flipH="1">
              <a:off x="3276720" y="4251600"/>
              <a:ext cx="3124080" cy="0"/>
            </a:xfrm>
            <a:prstGeom prst="line">
              <a:avLst/>
            </a:prstGeom>
            <a:ln cap="sq"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 flipH="1">
              <a:off x="3276720" y="5013360"/>
              <a:ext cx="3124080" cy="0"/>
            </a:xfrm>
            <a:prstGeom prst="line">
              <a:avLst/>
            </a:prstGeom>
            <a:ln cap="sq"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13"/>
          <p:cNvSpPr/>
          <p:nvPr/>
        </p:nvSpPr>
        <p:spPr>
          <a:xfrm>
            <a:off x="5486400" y="287964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4343400" y="287964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3352680" y="4403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3352680" y="364176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4343400" y="4403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5486400" y="4403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9"/>
          <p:cNvSpPr/>
          <p:nvPr/>
        </p:nvSpPr>
        <p:spPr>
          <a:xfrm>
            <a:off x="5486400" y="36450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4343400" y="36450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-181080" y="3645000"/>
            <a:ext cx="38894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1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o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RR x r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669960" y="5492880"/>
            <a:ext cx="80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h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the F1 offsp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7408800" y="3429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25"/>
          <p:cNvGraphicFramePr/>
          <p:nvPr/>
        </p:nvGraphicFramePr>
        <p:xfrm>
          <a:off x="7236000" y="3925800"/>
          <a:ext cx="122364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3925800"/>
                    <a:ext cx="122364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Object 2"/>
          <p:cNvGraphicFramePr/>
          <p:nvPr/>
        </p:nvGraphicFramePr>
        <p:xfrm>
          <a:off x="7236000" y="3849840"/>
          <a:ext cx="1223640" cy="19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3849840"/>
                    <a:ext cx="1223640" cy="19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Rr x R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3343320" y="2819520"/>
            <a:ext cx="3124080" cy="2209680"/>
            <a:chOff x="3343320" y="2819520"/>
            <a:chExt cx="3124080" cy="2209680"/>
          </a:xfrm>
        </p:grpSpPr>
        <p:sp>
          <p:nvSpPr>
            <p:cNvPr id="250" name="Line 5"/>
            <p:cNvSpPr/>
            <p:nvPr/>
          </p:nvSpPr>
          <p:spPr>
            <a:xfrm>
              <a:off x="4257720" y="2819520"/>
              <a:ext cx="0" cy="2209680"/>
            </a:xfrm>
            <a:prstGeom prst="line">
              <a:avLst/>
            </a:prstGeom>
            <a:ln cap="sq"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6"/>
            <p:cNvSpPr/>
            <p:nvPr/>
          </p:nvSpPr>
          <p:spPr>
            <a:xfrm>
              <a:off x="5324400" y="2819520"/>
              <a:ext cx="0" cy="2209680"/>
            </a:xfrm>
            <a:prstGeom prst="line">
              <a:avLst/>
            </a:prstGeom>
            <a:ln cap="sq"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7"/>
            <p:cNvSpPr/>
            <p:nvPr/>
          </p:nvSpPr>
          <p:spPr>
            <a:xfrm>
              <a:off x="6467400" y="2819520"/>
              <a:ext cx="0" cy="2209680"/>
            </a:xfrm>
            <a:prstGeom prst="line">
              <a:avLst/>
            </a:prstGeom>
            <a:ln cap="sq"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8"/>
            <p:cNvSpPr/>
            <p:nvPr/>
          </p:nvSpPr>
          <p:spPr>
            <a:xfrm flipH="1">
              <a:off x="3343320" y="3505320"/>
              <a:ext cx="3124080" cy="0"/>
            </a:xfrm>
            <a:prstGeom prst="line">
              <a:avLst/>
            </a:prstGeom>
            <a:ln cap="sq"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9"/>
            <p:cNvSpPr/>
            <p:nvPr/>
          </p:nvSpPr>
          <p:spPr>
            <a:xfrm flipH="1">
              <a:off x="3343320" y="4267440"/>
              <a:ext cx="3124080" cy="0"/>
            </a:xfrm>
            <a:prstGeom prst="line">
              <a:avLst/>
            </a:prstGeom>
            <a:ln cap="sq"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0"/>
            <p:cNvSpPr/>
            <p:nvPr/>
          </p:nvSpPr>
          <p:spPr>
            <a:xfrm flipH="1">
              <a:off x="3343320" y="5029200"/>
              <a:ext cx="3124080" cy="0"/>
            </a:xfrm>
            <a:prstGeom prst="line">
              <a:avLst/>
            </a:prstGeom>
            <a:ln cap="sq"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11"/>
          <p:cNvSpPr/>
          <p:nvPr/>
        </p:nvSpPr>
        <p:spPr>
          <a:xfrm>
            <a:off x="4486320" y="2895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5477040" y="28954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419640" y="3657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343320" y="44197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4410000" y="3657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5553000" y="3657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4410000" y="4419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8"/>
          <p:cNvSpPr/>
          <p:nvPr/>
        </p:nvSpPr>
        <p:spPr>
          <a:xfrm>
            <a:off x="5553000" y="4419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669960" y="5440320"/>
            <a:ext cx="80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h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the F2 offsp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0"/>
          <p:cNvSpPr/>
          <p:nvPr/>
        </p:nvSpPr>
        <p:spPr>
          <a:xfrm>
            <a:off x="7408800" y="3429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-36360" y="8841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ental geno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2"/>
          <p:cNvSpPr/>
          <p:nvPr/>
        </p:nvSpPr>
        <p:spPr>
          <a:xfrm>
            <a:off x="2901960" y="8938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3"/>
          <p:cNvSpPr/>
          <p:nvPr/>
        </p:nvSpPr>
        <p:spPr>
          <a:xfrm>
            <a:off x="2743200" y="1757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4"/>
          <p:cNvSpPr/>
          <p:nvPr/>
        </p:nvSpPr>
        <p:spPr>
          <a:xfrm>
            <a:off x="930240" y="17575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me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5"/>
          <p:cNvSpPr/>
          <p:nvPr/>
        </p:nvSpPr>
        <p:spPr>
          <a:xfrm>
            <a:off x="-181080" y="3645000"/>
            <a:ext cx="38894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2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o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Rr x R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351240" y="1568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4932360" y="1568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6124680" y="1568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7434360" y="155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609480" y="4365720"/>
            <a:ext cx="799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of the 4 possible offspring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Only one offspring shows the recessive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595440" y="5257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wo heterozygous parents are crossed, the possible offspring will always show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:1 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favour of the dominant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0"/>
          <p:cNvSpPr/>
          <p:nvPr/>
        </p:nvSpPr>
        <p:spPr>
          <a:xfrm>
            <a:off x="-36360" y="8841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ental geno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1"/>
          <p:cNvSpPr/>
          <p:nvPr/>
        </p:nvSpPr>
        <p:spPr>
          <a:xfrm>
            <a:off x="2901960" y="8938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rcRect l="41231" t="18898" r="34360" b="18898"/>
          <a:stretch/>
        </p:blipFill>
        <p:spPr>
          <a:xfrm>
            <a:off x="3219480" y="1927080"/>
            <a:ext cx="1278000" cy="23688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rcRect l="41231" t="18898" r="34360" b="18898"/>
          <a:stretch/>
        </p:blipFill>
        <p:spPr>
          <a:xfrm>
            <a:off x="4597560" y="1927080"/>
            <a:ext cx="1277640" cy="2368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/>
          <p:cNvPicPr/>
          <p:nvPr/>
        </p:nvPicPr>
        <p:blipFill>
          <a:blip r:embed="rId3"/>
          <a:srcRect l="41231" t="18898" r="34360" b="18898"/>
          <a:stretch/>
        </p:blipFill>
        <p:spPr>
          <a:xfrm>
            <a:off x="6054840" y="1927080"/>
            <a:ext cx="1278000" cy="23688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4"/>
          <a:srcRect l="34360" t="18898" r="34360" b="18898"/>
          <a:stretch/>
        </p:blipFill>
        <p:spPr>
          <a:xfrm>
            <a:off x="7183440" y="1927080"/>
            <a:ext cx="163656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"/>
          <p:cNvGrpSpPr/>
          <p:nvPr/>
        </p:nvGrpSpPr>
        <p:grpSpPr>
          <a:xfrm>
            <a:off x="1008000" y="2276640"/>
            <a:ext cx="7128000" cy="3097080"/>
            <a:chOff x="1008000" y="2276640"/>
            <a:chExt cx="7128000" cy="3097080"/>
          </a:xfrm>
        </p:grpSpPr>
        <p:pic>
          <p:nvPicPr>
            <p:cNvPr id="50" name="Picture 4" descr=""/>
            <p:cNvPicPr/>
            <p:nvPr/>
          </p:nvPicPr>
          <p:blipFill>
            <a:blip r:embed="rId1"/>
            <a:srcRect l="34360" t="18898" r="34360" b="18898"/>
            <a:stretch/>
          </p:blipFill>
          <p:spPr>
            <a:xfrm>
              <a:off x="2376000" y="2276640"/>
              <a:ext cx="2128320" cy="307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5" descr=""/>
            <p:cNvPicPr/>
            <p:nvPr/>
          </p:nvPicPr>
          <p:blipFill>
            <a:blip r:embed="rId2"/>
            <a:srcRect l="34360" t="18898" r="34360" b="18898"/>
            <a:stretch/>
          </p:blipFill>
          <p:spPr>
            <a:xfrm>
              <a:off x="6009120" y="2278080"/>
              <a:ext cx="2126880" cy="30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6" descr=""/>
            <p:cNvPicPr/>
            <p:nvPr/>
          </p:nvPicPr>
          <p:blipFill>
            <a:blip r:embed="rId3"/>
            <a:srcRect l="34360" t="18898" r="34360" b="18898"/>
            <a:stretch/>
          </p:blipFill>
          <p:spPr>
            <a:xfrm>
              <a:off x="4136400" y="2293920"/>
              <a:ext cx="2128320" cy="307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7" descr=""/>
            <p:cNvPicPr/>
            <p:nvPr/>
          </p:nvPicPr>
          <p:blipFill>
            <a:blip r:embed="rId4"/>
            <a:srcRect l="41231" t="18898" r="34360" b="18898"/>
            <a:stretch/>
          </p:blipFill>
          <p:spPr>
            <a:xfrm>
              <a:off x="1008000" y="2278080"/>
              <a:ext cx="1661760" cy="30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611280" y="836640"/>
            <a:ext cx="81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ll living things, characteristics are passed on in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at offspring inherit from their par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3932280" y="1700280"/>
            <a:ext cx="568440" cy="26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4651200" y="1700280"/>
            <a:ext cx="568440" cy="2698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1"/>
          <p:cNvSpPr/>
          <p:nvPr/>
        </p:nvSpPr>
        <p:spPr>
          <a:xfrm>
            <a:off x="558720" y="2637000"/>
            <a:ext cx="33829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romosome from female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5292720" y="2708280"/>
            <a:ext cx="33829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romosome from male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5920" y="3171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Different versions of ge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932280" y="1700280"/>
            <a:ext cx="568440" cy="2698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651200" y="1700280"/>
            <a:ext cx="568440" cy="2698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3"/>
          <a:srcRect l="0" t="15053" r="0" b="82149"/>
          <a:stretch/>
        </p:blipFill>
        <p:spPr>
          <a:xfrm>
            <a:off x="3932280" y="2106720"/>
            <a:ext cx="568440" cy="75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4"/>
          <a:srcRect l="0" t="15053" r="0" b="82149"/>
          <a:stretch/>
        </p:blipFill>
        <p:spPr>
          <a:xfrm>
            <a:off x="4651200" y="2106720"/>
            <a:ext cx="568440" cy="759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0"/>
          <p:cNvSpPr/>
          <p:nvPr/>
        </p:nvSpPr>
        <p:spPr>
          <a:xfrm>
            <a:off x="3357720" y="1889280"/>
            <a:ext cx="604800" cy="522000"/>
          </a:xfrm>
          <a:prstGeom prst="rightArrow">
            <a:avLst>
              <a:gd name="adj1" fmla="val 38602"/>
              <a:gd name="adj2" fmla="val 49874"/>
            </a:avLst>
          </a:prstGeom>
          <a:solidFill>
            <a:srgbClr val="01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/>
          <p:cNvSpPr/>
          <p:nvPr/>
        </p:nvSpPr>
        <p:spPr>
          <a:xfrm flipH="1">
            <a:off x="5119560" y="1882800"/>
            <a:ext cx="604800" cy="522360"/>
          </a:xfrm>
          <a:prstGeom prst="rightArrow">
            <a:avLst>
              <a:gd name="adj1" fmla="val 38602"/>
              <a:gd name="adj2" fmla="val 49840"/>
            </a:avLst>
          </a:prstGeom>
          <a:solidFill>
            <a:srgbClr val="01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/>
          <p:cNvSpPr/>
          <p:nvPr/>
        </p:nvSpPr>
        <p:spPr>
          <a:xfrm>
            <a:off x="5796000" y="285264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5796000" y="1844640"/>
            <a:ext cx="2448000" cy="10080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5788080" y="287640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ersion for yellow p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/>
          <p:cNvSpPr/>
          <p:nvPr/>
        </p:nvSpPr>
        <p:spPr>
          <a:xfrm>
            <a:off x="836640" y="286236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836640" y="1854360"/>
            <a:ext cx="2448000" cy="10080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828720" y="288612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ersion for red p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900000" y="1844640"/>
            <a:ext cx="231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ene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etal co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5859360" y="1835280"/>
            <a:ext cx="231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ene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etal co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900000" y="494172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t versions of genes alleles are created when DNA mutates.  This leads to vari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Pairs of alleles - homozyg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5"/>
          <p:cNvGrpSpPr/>
          <p:nvPr/>
        </p:nvGrpSpPr>
        <p:grpSpPr>
          <a:xfrm>
            <a:off x="3510000" y="1812960"/>
            <a:ext cx="754200" cy="1616040"/>
            <a:chOff x="3510000" y="1812960"/>
            <a:chExt cx="754200" cy="1616040"/>
          </a:xfrm>
        </p:grpSpPr>
        <p:pic>
          <p:nvPicPr>
            <p:cNvPr id="78" name="Picture 6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3922560" y="1812960"/>
              <a:ext cx="341640" cy="16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7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3510000" y="1812960"/>
              <a:ext cx="341280" cy="16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8" descr=""/>
            <p:cNvPicPr/>
            <p:nvPr/>
          </p:nvPicPr>
          <p:blipFill>
            <a:blip r:embed="rId3">
              <a:grayscl/>
            </a:blip>
            <a:srcRect l="0" t="15053" r="0" b="82149"/>
            <a:stretch/>
          </p:blipFill>
          <p:spPr>
            <a:xfrm>
              <a:off x="3510000" y="2066760"/>
              <a:ext cx="341280" cy="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9" descr=""/>
            <p:cNvPicPr/>
            <p:nvPr/>
          </p:nvPicPr>
          <p:blipFill>
            <a:blip r:embed="rId4">
              <a:grayscl/>
            </a:blip>
            <a:srcRect l="0" t="15053" r="0" b="82149"/>
            <a:stretch/>
          </p:blipFill>
          <p:spPr>
            <a:xfrm>
              <a:off x="3922560" y="2070000"/>
              <a:ext cx="341640" cy="4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Group 10"/>
          <p:cNvGrpSpPr/>
          <p:nvPr/>
        </p:nvGrpSpPr>
        <p:grpSpPr>
          <a:xfrm>
            <a:off x="4206600" y="1844640"/>
            <a:ext cx="2813400" cy="936720"/>
            <a:chOff x="4206600" y="1844640"/>
            <a:chExt cx="2813400" cy="936720"/>
          </a:xfrm>
        </p:grpSpPr>
        <p:sp>
          <p:nvSpPr>
            <p:cNvPr id="83" name="AutoShape 11"/>
            <p:cNvSpPr/>
            <p:nvPr/>
          </p:nvSpPr>
          <p:spPr>
            <a:xfrm flipH="1">
              <a:off x="4206240" y="1897200"/>
              <a:ext cx="460440" cy="450720"/>
            </a:xfrm>
            <a:prstGeom prst="rightArrow">
              <a:avLst>
                <a:gd name="adj1" fmla="val 35917"/>
                <a:gd name="adj2" fmla="val 5706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12"/>
            <p:cNvGrpSpPr/>
            <p:nvPr/>
          </p:nvGrpSpPr>
          <p:grpSpPr>
            <a:xfrm>
              <a:off x="4716360" y="1844640"/>
              <a:ext cx="2303640" cy="936720"/>
              <a:chOff x="4716360" y="1844640"/>
              <a:chExt cx="2303640" cy="936720"/>
            </a:xfrm>
          </p:grpSpPr>
          <p:sp>
            <p:nvSpPr>
              <p:cNvPr id="85" name="AutoShape 13"/>
              <p:cNvSpPr/>
              <p:nvPr/>
            </p:nvSpPr>
            <p:spPr>
              <a:xfrm>
                <a:off x="4723560" y="1844640"/>
                <a:ext cx="2238480" cy="93672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14"/>
              <p:cNvSpPr/>
              <p:nvPr/>
            </p:nvSpPr>
            <p:spPr>
              <a:xfrm>
                <a:off x="4716360" y="1844640"/>
                <a:ext cx="230364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lele for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llow petals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Group 15"/>
          <p:cNvGrpSpPr/>
          <p:nvPr/>
        </p:nvGrpSpPr>
        <p:grpSpPr>
          <a:xfrm>
            <a:off x="755640" y="1844640"/>
            <a:ext cx="2779560" cy="936720"/>
            <a:chOff x="755640" y="1844640"/>
            <a:chExt cx="2779560" cy="936720"/>
          </a:xfrm>
        </p:grpSpPr>
        <p:sp>
          <p:nvSpPr>
            <p:cNvPr id="88" name="AutoShape 16"/>
            <p:cNvSpPr/>
            <p:nvPr/>
          </p:nvSpPr>
          <p:spPr>
            <a:xfrm>
              <a:off x="3075120" y="1868400"/>
              <a:ext cx="460080" cy="451080"/>
            </a:xfrm>
            <a:prstGeom prst="rightArrow">
              <a:avLst>
                <a:gd name="adj1" fmla="val 35917"/>
                <a:gd name="adj2" fmla="val 56976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7"/>
            <p:cNvGrpSpPr/>
            <p:nvPr/>
          </p:nvGrpSpPr>
          <p:grpSpPr>
            <a:xfrm>
              <a:off x="755640" y="1844640"/>
              <a:ext cx="2303640" cy="936720"/>
              <a:chOff x="755640" y="1844640"/>
              <a:chExt cx="2303640" cy="936720"/>
            </a:xfrm>
          </p:grpSpPr>
          <p:sp>
            <p:nvSpPr>
              <p:cNvPr id="90" name="AutoShape 18"/>
              <p:cNvSpPr/>
              <p:nvPr/>
            </p:nvSpPr>
            <p:spPr>
              <a:xfrm>
                <a:off x="762840" y="1844640"/>
                <a:ext cx="2238480" cy="93672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19"/>
              <p:cNvSpPr/>
              <p:nvPr/>
            </p:nvSpPr>
            <p:spPr>
              <a:xfrm>
                <a:off x="755640" y="1844640"/>
                <a:ext cx="230364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lele for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llow petals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Group 20"/>
          <p:cNvGrpSpPr/>
          <p:nvPr/>
        </p:nvGrpSpPr>
        <p:grpSpPr>
          <a:xfrm>
            <a:off x="3510000" y="3828960"/>
            <a:ext cx="754200" cy="1616040"/>
            <a:chOff x="3510000" y="3828960"/>
            <a:chExt cx="754200" cy="1616040"/>
          </a:xfrm>
        </p:grpSpPr>
        <p:pic>
          <p:nvPicPr>
            <p:cNvPr id="93" name="Picture 21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3922560" y="3828960"/>
              <a:ext cx="341640" cy="16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2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3510000" y="3828960"/>
              <a:ext cx="341280" cy="16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3" descr=""/>
            <p:cNvPicPr/>
            <p:nvPr/>
          </p:nvPicPr>
          <p:blipFill>
            <a:blip r:embed="rId7">
              <a:grayscl/>
            </a:blip>
            <a:srcRect l="0" t="15053" r="0" b="82149"/>
            <a:stretch/>
          </p:blipFill>
          <p:spPr>
            <a:xfrm>
              <a:off x="3510000" y="4083120"/>
              <a:ext cx="341280" cy="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4" descr=""/>
            <p:cNvPicPr/>
            <p:nvPr/>
          </p:nvPicPr>
          <p:blipFill>
            <a:blip r:embed="rId8">
              <a:grayscl/>
            </a:blip>
            <a:srcRect l="0" t="15053" r="0" b="82149"/>
            <a:stretch/>
          </p:blipFill>
          <p:spPr>
            <a:xfrm>
              <a:off x="3922560" y="4086360"/>
              <a:ext cx="341640" cy="4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25"/>
          <p:cNvGrpSpPr/>
          <p:nvPr/>
        </p:nvGrpSpPr>
        <p:grpSpPr>
          <a:xfrm>
            <a:off x="4206600" y="3860640"/>
            <a:ext cx="2813400" cy="936720"/>
            <a:chOff x="4206600" y="3860640"/>
            <a:chExt cx="2813400" cy="936720"/>
          </a:xfrm>
        </p:grpSpPr>
        <p:sp>
          <p:nvSpPr>
            <p:cNvPr id="98" name="AutoShape 26"/>
            <p:cNvSpPr/>
            <p:nvPr/>
          </p:nvSpPr>
          <p:spPr>
            <a:xfrm flipH="1">
              <a:off x="4206240" y="3913200"/>
              <a:ext cx="460440" cy="450720"/>
            </a:xfrm>
            <a:prstGeom prst="rightArrow">
              <a:avLst>
                <a:gd name="adj1" fmla="val 35917"/>
                <a:gd name="adj2" fmla="val 5706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27"/>
            <p:cNvGrpSpPr/>
            <p:nvPr/>
          </p:nvGrpSpPr>
          <p:grpSpPr>
            <a:xfrm>
              <a:off x="4716360" y="3860640"/>
              <a:ext cx="2303640" cy="936720"/>
              <a:chOff x="4716360" y="3860640"/>
              <a:chExt cx="2303640" cy="936720"/>
            </a:xfrm>
          </p:grpSpPr>
          <p:sp>
            <p:nvSpPr>
              <p:cNvPr id="100" name="AutoShape 28"/>
              <p:cNvSpPr/>
              <p:nvPr/>
            </p:nvSpPr>
            <p:spPr>
              <a:xfrm>
                <a:off x="4723560" y="3860640"/>
                <a:ext cx="2238480" cy="936720"/>
              </a:xfrm>
              <a:prstGeom prst="roundRect">
                <a:avLst>
                  <a:gd name="adj" fmla="val 16667"/>
                </a:avLst>
              </a:prstGeom>
              <a:solidFill>
                <a:srgbClr val="ff33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29"/>
              <p:cNvSpPr/>
              <p:nvPr/>
            </p:nvSpPr>
            <p:spPr>
              <a:xfrm>
                <a:off x="4716360" y="3860640"/>
                <a:ext cx="230364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lele for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d petals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30"/>
          <p:cNvGrpSpPr/>
          <p:nvPr/>
        </p:nvGrpSpPr>
        <p:grpSpPr>
          <a:xfrm>
            <a:off x="755640" y="3860640"/>
            <a:ext cx="2779560" cy="936720"/>
            <a:chOff x="755640" y="3860640"/>
            <a:chExt cx="2779560" cy="936720"/>
          </a:xfrm>
        </p:grpSpPr>
        <p:sp>
          <p:nvSpPr>
            <p:cNvPr id="103" name="AutoShape 31"/>
            <p:cNvSpPr/>
            <p:nvPr/>
          </p:nvSpPr>
          <p:spPr>
            <a:xfrm>
              <a:off x="3075120" y="3884760"/>
              <a:ext cx="460080" cy="450720"/>
            </a:xfrm>
            <a:prstGeom prst="rightArrow">
              <a:avLst>
                <a:gd name="adj1" fmla="val 35917"/>
                <a:gd name="adj2" fmla="val 57021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32"/>
            <p:cNvGrpSpPr/>
            <p:nvPr/>
          </p:nvGrpSpPr>
          <p:grpSpPr>
            <a:xfrm>
              <a:off x="755640" y="3860640"/>
              <a:ext cx="2303640" cy="936720"/>
              <a:chOff x="755640" y="3860640"/>
              <a:chExt cx="2303640" cy="936720"/>
            </a:xfrm>
          </p:grpSpPr>
          <p:sp>
            <p:nvSpPr>
              <p:cNvPr id="105" name="AutoShape 33"/>
              <p:cNvSpPr/>
              <p:nvPr/>
            </p:nvSpPr>
            <p:spPr>
              <a:xfrm>
                <a:off x="762840" y="3860640"/>
                <a:ext cx="2238480" cy="936720"/>
              </a:xfrm>
              <a:prstGeom prst="roundRect">
                <a:avLst>
                  <a:gd name="adj" fmla="val 16667"/>
                </a:avLst>
              </a:prstGeom>
              <a:solidFill>
                <a:srgbClr val="ff33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34"/>
              <p:cNvSpPr/>
              <p:nvPr/>
            </p:nvSpPr>
            <p:spPr>
              <a:xfrm>
                <a:off x="755640" y="3860640"/>
                <a:ext cx="230364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lele for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d petals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7" name="Picture 4" descr=""/>
          <p:cNvPicPr/>
          <p:nvPr/>
        </p:nvPicPr>
        <p:blipFill>
          <a:blip r:embed="rId9"/>
          <a:srcRect l="34360" t="18898" r="34360" b="18898"/>
          <a:stretch/>
        </p:blipFill>
        <p:spPr>
          <a:xfrm>
            <a:off x="7199280" y="1143000"/>
            <a:ext cx="158112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"/>
          <p:cNvPicPr/>
          <p:nvPr/>
        </p:nvPicPr>
        <p:blipFill>
          <a:blip r:embed="rId10"/>
          <a:srcRect l="41231" t="18898" r="34360" b="18898"/>
          <a:stretch/>
        </p:blipFill>
        <p:spPr>
          <a:xfrm>
            <a:off x="7559640" y="3179880"/>
            <a:ext cx="1278000" cy="2368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11"/>
          <a:srcRect l="0" t="15053" r="0" b="82149"/>
          <a:stretch/>
        </p:blipFill>
        <p:spPr>
          <a:xfrm>
            <a:off x="3519360" y="2050920"/>
            <a:ext cx="341280" cy="46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12"/>
          <a:srcRect l="0" t="15053" r="0" b="82149"/>
          <a:stretch/>
        </p:blipFill>
        <p:spPr>
          <a:xfrm>
            <a:off x="3938760" y="2050920"/>
            <a:ext cx="341280" cy="46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13"/>
          <a:srcRect l="0" t="15053" r="0" b="82149"/>
          <a:stretch/>
        </p:blipFill>
        <p:spPr>
          <a:xfrm>
            <a:off x="3510000" y="4065480"/>
            <a:ext cx="341280" cy="46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14"/>
          <a:srcRect l="0" t="15053" r="0" b="82149"/>
          <a:stretch/>
        </p:blipFill>
        <p:spPr>
          <a:xfrm>
            <a:off x="3929040" y="4065480"/>
            <a:ext cx="34128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Pairs of alleles -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5"/>
          <p:cNvGrpSpPr/>
          <p:nvPr/>
        </p:nvGrpSpPr>
        <p:grpSpPr>
          <a:xfrm>
            <a:off x="3510000" y="1812960"/>
            <a:ext cx="754200" cy="1616040"/>
            <a:chOff x="3510000" y="1812960"/>
            <a:chExt cx="754200" cy="1616040"/>
          </a:xfrm>
        </p:grpSpPr>
        <p:pic>
          <p:nvPicPr>
            <p:cNvPr id="115" name="Picture 6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3922560" y="1812960"/>
              <a:ext cx="341640" cy="16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7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3510000" y="1812960"/>
              <a:ext cx="341280" cy="16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8" descr=""/>
            <p:cNvPicPr/>
            <p:nvPr/>
          </p:nvPicPr>
          <p:blipFill>
            <a:blip r:embed="rId3">
              <a:grayscl/>
            </a:blip>
            <a:srcRect l="0" t="15053" r="0" b="82149"/>
            <a:stretch/>
          </p:blipFill>
          <p:spPr>
            <a:xfrm>
              <a:off x="3510000" y="2066760"/>
              <a:ext cx="341280" cy="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9" descr=""/>
            <p:cNvPicPr/>
            <p:nvPr/>
          </p:nvPicPr>
          <p:blipFill>
            <a:blip r:embed="rId4">
              <a:grayscl/>
            </a:blip>
            <a:srcRect l="0" t="15053" r="0" b="82149"/>
            <a:stretch/>
          </p:blipFill>
          <p:spPr>
            <a:xfrm>
              <a:off x="3922560" y="2070000"/>
              <a:ext cx="341640" cy="4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10"/>
          <p:cNvGrpSpPr/>
          <p:nvPr/>
        </p:nvGrpSpPr>
        <p:grpSpPr>
          <a:xfrm>
            <a:off x="4242960" y="3805200"/>
            <a:ext cx="2813400" cy="936720"/>
            <a:chOff x="4242960" y="3805200"/>
            <a:chExt cx="2813400" cy="936720"/>
          </a:xfrm>
        </p:grpSpPr>
        <p:sp>
          <p:nvSpPr>
            <p:cNvPr id="120" name="AutoShape 11"/>
            <p:cNvSpPr/>
            <p:nvPr/>
          </p:nvSpPr>
          <p:spPr>
            <a:xfrm flipH="1">
              <a:off x="4242600" y="3857760"/>
              <a:ext cx="460440" cy="450720"/>
            </a:xfrm>
            <a:prstGeom prst="rightArrow">
              <a:avLst>
                <a:gd name="adj1" fmla="val 35917"/>
                <a:gd name="adj2" fmla="val 5706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2"/>
            <p:cNvGrpSpPr/>
            <p:nvPr/>
          </p:nvGrpSpPr>
          <p:grpSpPr>
            <a:xfrm>
              <a:off x="4752720" y="3805200"/>
              <a:ext cx="2303640" cy="936720"/>
              <a:chOff x="4752720" y="3805200"/>
              <a:chExt cx="2303640" cy="936720"/>
            </a:xfrm>
          </p:grpSpPr>
          <p:sp>
            <p:nvSpPr>
              <p:cNvPr id="122" name="AutoShape 13"/>
              <p:cNvSpPr/>
              <p:nvPr/>
            </p:nvSpPr>
            <p:spPr>
              <a:xfrm>
                <a:off x="4759920" y="3805200"/>
                <a:ext cx="2238480" cy="93672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14"/>
              <p:cNvSpPr/>
              <p:nvPr/>
            </p:nvSpPr>
            <p:spPr>
              <a:xfrm>
                <a:off x="4752720" y="3805200"/>
                <a:ext cx="230364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lele for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llow petals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Group 15"/>
          <p:cNvGrpSpPr/>
          <p:nvPr/>
        </p:nvGrpSpPr>
        <p:grpSpPr>
          <a:xfrm>
            <a:off x="755640" y="1844640"/>
            <a:ext cx="2779560" cy="936720"/>
            <a:chOff x="755640" y="1844640"/>
            <a:chExt cx="2779560" cy="936720"/>
          </a:xfrm>
        </p:grpSpPr>
        <p:sp>
          <p:nvSpPr>
            <p:cNvPr id="125" name="AutoShape 16"/>
            <p:cNvSpPr/>
            <p:nvPr/>
          </p:nvSpPr>
          <p:spPr>
            <a:xfrm>
              <a:off x="3075120" y="1868400"/>
              <a:ext cx="460080" cy="451080"/>
            </a:xfrm>
            <a:prstGeom prst="rightArrow">
              <a:avLst>
                <a:gd name="adj1" fmla="val 35917"/>
                <a:gd name="adj2" fmla="val 56976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17"/>
            <p:cNvGrpSpPr/>
            <p:nvPr/>
          </p:nvGrpSpPr>
          <p:grpSpPr>
            <a:xfrm>
              <a:off x="755640" y="1844640"/>
              <a:ext cx="2303640" cy="936720"/>
              <a:chOff x="755640" y="1844640"/>
              <a:chExt cx="2303640" cy="936720"/>
            </a:xfrm>
          </p:grpSpPr>
          <p:sp>
            <p:nvSpPr>
              <p:cNvPr id="127" name="AutoShape 18"/>
              <p:cNvSpPr/>
              <p:nvPr/>
            </p:nvSpPr>
            <p:spPr>
              <a:xfrm>
                <a:off x="762840" y="1844640"/>
                <a:ext cx="2238480" cy="93672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19"/>
              <p:cNvSpPr/>
              <p:nvPr/>
            </p:nvSpPr>
            <p:spPr>
              <a:xfrm>
                <a:off x="755640" y="1844640"/>
                <a:ext cx="230364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lele for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llow petals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Group 20"/>
          <p:cNvGrpSpPr/>
          <p:nvPr/>
        </p:nvGrpSpPr>
        <p:grpSpPr>
          <a:xfrm>
            <a:off x="3510000" y="3828960"/>
            <a:ext cx="754200" cy="1616040"/>
            <a:chOff x="3510000" y="3828960"/>
            <a:chExt cx="754200" cy="1616040"/>
          </a:xfrm>
        </p:grpSpPr>
        <p:pic>
          <p:nvPicPr>
            <p:cNvPr id="130" name="Picture 21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3922560" y="3828960"/>
              <a:ext cx="341640" cy="16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2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3510000" y="3828960"/>
              <a:ext cx="341280" cy="16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3" descr=""/>
            <p:cNvPicPr/>
            <p:nvPr/>
          </p:nvPicPr>
          <p:blipFill>
            <a:blip r:embed="rId7">
              <a:grayscl/>
            </a:blip>
            <a:srcRect l="0" t="15053" r="0" b="82149"/>
            <a:stretch/>
          </p:blipFill>
          <p:spPr>
            <a:xfrm>
              <a:off x="3510000" y="4083120"/>
              <a:ext cx="341280" cy="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4" descr=""/>
            <p:cNvPicPr/>
            <p:nvPr/>
          </p:nvPicPr>
          <p:blipFill>
            <a:blip r:embed="rId8">
              <a:grayscl/>
            </a:blip>
            <a:srcRect l="0" t="15053" r="0" b="82149"/>
            <a:stretch/>
          </p:blipFill>
          <p:spPr>
            <a:xfrm>
              <a:off x="3922560" y="4086360"/>
              <a:ext cx="341640" cy="4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Group 25"/>
          <p:cNvGrpSpPr/>
          <p:nvPr/>
        </p:nvGrpSpPr>
        <p:grpSpPr>
          <a:xfrm>
            <a:off x="4285800" y="1800360"/>
            <a:ext cx="2813400" cy="936360"/>
            <a:chOff x="4285800" y="1800360"/>
            <a:chExt cx="2813400" cy="936360"/>
          </a:xfrm>
        </p:grpSpPr>
        <p:sp>
          <p:nvSpPr>
            <p:cNvPr id="135" name="AutoShape 26"/>
            <p:cNvSpPr/>
            <p:nvPr/>
          </p:nvSpPr>
          <p:spPr>
            <a:xfrm flipH="1">
              <a:off x="4285440" y="1852560"/>
              <a:ext cx="460440" cy="450360"/>
            </a:xfrm>
            <a:prstGeom prst="rightArrow">
              <a:avLst>
                <a:gd name="adj1" fmla="val 35917"/>
                <a:gd name="adj2" fmla="val 57111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27"/>
            <p:cNvGrpSpPr/>
            <p:nvPr/>
          </p:nvGrpSpPr>
          <p:grpSpPr>
            <a:xfrm>
              <a:off x="4795560" y="1800360"/>
              <a:ext cx="2303640" cy="936360"/>
              <a:chOff x="4795560" y="1800360"/>
              <a:chExt cx="2303640" cy="936360"/>
            </a:xfrm>
          </p:grpSpPr>
          <p:sp>
            <p:nvSpPr>
              <p:cNvPr id="137" name="AutoShape 28"/>
              <p:cNvSpPr/>
              <p:nvPr/>
            </p:nvSpPr>
            <p:spPr>
              <a:xfrm>
                <a:off x="4802760" y="1800360"/>
                <a:ext cx="2238480" cy="936360"/>
              </a:xfrm>
              <a:prstGeom prst="roundRect">
                <a:avLst>
                  <a:gd name="adj" fmla="val 16667"/>
                </a:avLst>
              </a:prstGeom>
              <a:solidFill>
                <a:srgbClr val="ff33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29"/>
              <p:cNvSpPr/>
              <p:nvPr/>
            </p:nvSpPr>
            <p:spPr>
              <a:xfrm>
                <a:off x="4795560" y="1800360"/>
                <a:ext cx="230364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lele for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d petals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30"/>
          <p:cNvGrpSpPr/>
          <p:nvPr/>
        </p:nvGrpSpPr>
        <p:grpSpPr>
          <a:xfrm>
            <a:off x="755640" y="3860640"/>
            <a:ext cx="2779560" cy="936720"/>
            <a:chOff x="755640" y="3860640"/>
            <a:chExt cx="2779560" cy="936720"/>
          </a:xfrm>
        </p:grpSpPr>
        <p:sp>
          <p:nvSpPr>
            <p:cNvPr id="140" name="AutoShape 31"/>
            <p:cNvSpPr/>
            <p:nvPr/>
          </p:nvSpPr>
          <p:spPr>
            <a:xfrm>
              <a:off x="3075120" y="3884760"/>
              <a:ext cx="460080" cy="450720"/>
            </a:xfrm>
            <a:prstGeom prst="rightArrow">
              <a:avLst>
                <a:gd name="adj1" fmla="val 35917"/>
                <a:gd name="adj2" fmla="val 57021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32"/>
            <p:cNvGrpSpPr/>
            <p:nvPr/>
          </p:nvGrpSpPr>
          <p:grpSpPr>
            <a:xfrm>
              <a:off x="755640" y="3860640"/>
              <a:ext cx="2303640" cy="936720"/>
              <a:chOff x="755640" y="3860640"/>
              <a:chExt cx="2303640" cy="936720"/>
            </a:xfrm>
          </p:grpSpPr>
          <p:sp>
            <p:nvSpPr>
              <p:cNvPr id="142" name="AutoShape 33"/>
              <p:cNvSpPr/>
              <p:nvPr/>
            </p:nvSpPr>
            <p:spPr>
              <a:xfrm>
                <a:off x="762840" y="3860640"/>
                <a:ext cx="2238480" cy="936720"/>
              </a:xfrm>
              <a:prstGeom prst="roundRect">
                <a:avLst>
                  <a:gd name="adj" fmla="val 16667"/>
                </a:avLst>
              </a:prstGeom>
              <a:solidFill>
                <a:srgbClr val="ff33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34"/>
              <p:cNvSpPr/>
              <p:nvPr/>
            </p:nvSpPr>
            <p:spPr>
              <a:xfrm>
                <a:off x="755640" y="3860640"/>
                <a:ext cx="230364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lele for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d petals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4" name="Picture 11" descr=""/>
          <p:cNvPicPr/>
          <p:nvPr/>
        </p:nvPicPr>
        <p:blipFill>
          <a:blip r:embed="rId9"/>
          <a:srcRect l="41231" t="18898" r="34360" b="18898"/>
          <a:stretch/>
        </p:blipFill>
        <p:spPr>
          <a:xfrm>
            <a:off x="7559640" y="3179880"/>
            <a:ext cx="1278000" cy="2368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10"/>
          <a:srcRect l="0" t="15053" r="0" b="82149"/>
          <a:stretch/>
        </p:blipFill>
        <p:spPr>
          <a:xfrm>
            <a:off x="3519360" y="2050920"/>
            <a:ext cx="341280" cy="46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11"/>
          <a:srcRect l="0" t="15053" r="0" b="82149"/>
          <a:stretch/>
        </p:blipFill>
        <p:spPr>
          <a:xfrm>
            <a:off x="3938760" y="2050920"/>
            <a:ext cx="341280" cy="46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12"/>
          <a:srcRect l="0" t="15053" r="0" b="82149"/>
          <a:stretch/>
        </p:blipFill>
        <p:spPr>
          <a:xfrm>
            <a:off x="3510000" y="4065480"/>
            <a:ext cx="341280" cy="46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13"/>
          <a:srcRect l="0" t="15053" r="0" b="82149"/>
          <a:stretch/>
        </p:blipFill>
        <p:spPr>
          <a:xfrm>
            <a:off x="3929040" y="4065480"/>
            <a:ext cx="341280" cy="46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"/>
          <p:cNvPicPr/>
          <p:nvPr/>
        </p:nvPicPr>
        <p:blipFill>
          <a:blip r:embed="rId14"/>
          <a:srcRect l="41231" t="18898" r="34360" b="18898"/>
          <a:stretch/>
        </p:blipFill>
        <p:spPr>
          <a:xfrm>
            <a:off x="7529400" y="1060560"/>
            <a:ext cx="12780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Pairs of alle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539640" y="537372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me alleles ar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omina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other forms of a g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d will always be expr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0"/>
          <p:cNvGrpSpPr/>
          <p:nvPr/>
        </p:nvGrpSpPr>
        <p:grpSpPr>
          <a:xfrm>
            <a:off x="4787640" y="2421000"/>
            <a:ext cx="2813400" cy="936720"/>
            <a:chOff x="4787640" y="2421000"/>
            <a:chExt cx="2813400" cy="936720"/>
          </a:xfrm>
        </p:grpSpPr>
        <p:sp>
          <p:nvSpPr>
            <p:cNvPr id="153" name="AutoShape 11"/>
            <p:cNvSpPr/>
            <p:nvPr/>
          </p:nvSpPr>
          <p:spPr>
            <a:xfrm flipH="1">
              <a:off x="4787280" y="2473560"/>
              <a:ext cx="460440" cy="450720"/>
            </a:xfrm>
            <a:prstGeom prst="rightArrow">
              <a:avLst>
                <a:gd name="adj1" fmla="val 35917"/>
                <a:gd name="adj2" fmla="val 5706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12"/>
            <p:cNvGrpSpPr/>
            <p:nvPr/>
          </p:nvGrpSpPr>
          <p:grpSpPr>
            <a:xfrm>
              <a:off x="5297400" y="2421000"/>
              <a:ext cx="2303640" cy="936720"/>
              <a:chOff x="5297400" y="2421000"/>
              <a:chExt cx="2303640" cy="936720"/>
            </a:xfrm>
          </p:grpSpPr>
          <p:sp>
            <p:nvSpPr>
              <p:cNvPr id="155" name="AutoShape 13"/>
              <p:cNvSpPr/>
              <p:nvPr/>
            </p:nvSpPr>
            <p:spPr>
              <a:xfrm>
                <a:off x="5304600" y="2421000"/>
                <a:ext cx="2238480" cy="93672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14"/>
              <p:cNvSpPr/>
              <p:nvPr/>
            </p:nvSpPr>
            <p:spPr>
              <a:xfrm>
                <a:off x="5297400" y="2421000"/>
                <a:ext cx="230364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lele for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llow petals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Group 20"/>
          <p:cNvGrpSpPr/>
          <p:nvPr/>
        </p:nvGrpSpPr>
        <p:grpSpPr>
          <a:xfrm>
            <a:off x="4054320" y="2444760"/>
            <a:ext cx="754200" cy="1616040"/>
            <a:chOff x="4054320" y="2444760"/>
            <a:chExt cx="754200" cy="1616040"/>
          </a:xfrm>
        </p:grpSpPr>
        <p:pic>
          <p:nvPicPr>
            <p:cNvPr id="158" name="Picture 21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4466880" y="2444760"/>
              <a:ext cx="341640" cy="16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22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4054320" y="2444760"/>
              <a:ext cx="341280" cy="16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23" descr=""/>
            <p:cNvPicPr/>
            <p:nvPr/>
          </p:nvPicPr>
          <p:blipFill>
            <a:blip r:embed="rId3">
              <a:grayscl/>
            </a:blip>
            <a:srcRect l="0" t="15053" r="0" b="82149"/>
            <a:stretch/>
          </p:blipFill>
          <p:spPr>
            <a:xfrm>
              <a:off x="4054320" y="2698920"/>
              <a:ext cx="341280" cy="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4" descr=""/>
            <p:cNvPicPr/>
            <p:nvPr/>
          </p:nvPicPr>
          <p:blipFill>
            <a:blip r:embed="rId4">
              <a:grayscl/>
            </a:blip>
            <a:srcRect l="0" t="15053" r="0" b="82149"/>
            <a:stretch/>
          </p:blipFill>
          <p:spPr>
            <a:xfrm>
              <a:off x="4466880" y="2702160"/>
              <a:ext cx="341640" cy="4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30"/>
          <p:cNvGrpSpPr/>
          <p:nvPr/>
        </p:nvGrpSpPr>
        <p:grpSpPr>
          <a:xfrm>
            <a:off x="1300320" y="2476440"/>
            <a:ext cx="2779560" cy="936720"/>
            <a:chOff x="1300320" y="2476440"/>
            <a:chExt cx="2779560" cy="936720"/>
          </a:xfrm>
        </p:grpSpPr>
        <p:sp>
          <p:nvSpPr>
            <p:cNvPr id="163" name="AutoShape 31"/>
            <p:cNvSpPr/>
            <p:nvPr/>
          </p:nvSpPr>
          <p:spPr>
            <a:xfrm>
              <a:off x="3619800" y="2500560"/>
              <a:ext cx="460080" cy="450720"/>
            </a:xfrm>
            <a:prstGeom prst="rightArrow">
              <a:avLst>
                <a:gd name="adj1" fmla="val 35917"/>
                <a:gd name="adj2" fmla="val 57021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32"/>
            <p:cNvGrpSpPr/>
            <p:nvPr/>
          </p:nvGrpSpPr>
          <p:grpSpPr>
            <a:xfrm>
              <a:off x="1300320" y="2476440"/>
              <a:ext cx="2303640" cy="936720"/>
              <a:chOff x="1300320" y="2476440"/>
              <a:chExt cx="2303640" cy="936720"/>
            </a:xfrm>
          </p:grpSpPr>
          <p:sp>
            <p:nvSpPr>
              <p:cNvPr id="165" name="AutoShape 33"/>
              <p:cNvSpPr/>
              <p:nvPr/>
            </p:nvSpPr>
            <p:spPr>
              <a:xfrm>
                <a:off x="1307520" y="2476440"/>
                <a:ext cx="2238480" cy="936720"/>
              </a:xfrm>
              <a:prstGeom prst="roundRect">
                <a:avLst>
                  <a:gd name="adj" fmla="val 16667"/>
                </a:avLst>
              </a:prstGeom>
              <a:solidFill>
                <a:srgbClr val="ff330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34"/>
              <p:cNvSpPr/>
              <p:nvPr/>
            </p:nvSpPr>
            <p:spPr>
              <a:xfrm>
                <a:off x="1300320" y="2476440"/>
                <a:ext cx="230364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lele for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d petals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7" name="Picture 8" descr=""/>
          <p:cNvPicPr/>
          <p:nvPr/>
        </p:nvPicPr>
        <p:blipFill>
          <a:blip r:embed="rId5"/>
          <a:srcRect l="0" t="15053" r="0" b="82149"/>
          <a:stretch/>
        </p:blipFill>
        <p:spPr>
          <a:xfrm>
            <a:off x="4054320" y="2681280"/>
            <a:ext cx="341640" cy="46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"/>
          <p:cNvPicPr/>
          <p:nvPr/>
        </p:nvPicPr>
        <p:blipFill>
          <a:blip r:embed="rId6"/>
          <a:srcRect l="0" t="15053" r="0" b="82149"/>
          <a:stretch/>
        </p:blipFill>
        <p:spPr>
          <a:xfrm>
            <a:off x="4473720" y="2681280"/>
            <a:ext cx="34128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611280" y="510228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llele pair for each characteristic is called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oty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11280" y="56358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colour are flowers with the genotyp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611280" y="131616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ominant allel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always 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apital letter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611280" y="314172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essive allel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always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rresponding small lett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1619280" y="1986120"/>
            <a:ext cx="2303280" cy="936360"/>
            <a:chOff x="1619280" y="1986120"/>
            <a:chExt cx="2303280" cy="936360"/>
          </a:xfrm>
        </p:grpSpPr>
        <p:sp>
          <p:nvSpPr>
            <p:cNvPr id="174" name="AutoShape 11"/>
            <p:cNvSpPr/>
            <p:nvPr/>
          </p:nvSpPr>
          <p:spPr>
            <a:xfrm>
              <a:off x="1626480" y="1986120"/>
              <a:ext cx="2238120" cy="93636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1619280" y="1986120"/>
              <a:ext cx="23032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allele for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red petal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3"/>
          <p:cNvGrpSpPr/>
          <p:nvPr/>
        </p:nvGrpSpPr>
        <p:grpSpPr>
          <a:xfrm>
            <a:off x="4930920" y="1987560"/>
            <a:ext cx="865080" cy="936720"/>
            <a:chOff x="4930920" y="1987560"/>
            <a:chExt cx="865080" cy="936720"/>
          </a:xfrm>
        </p:grpSpPr>
        <p:sp>
          <p:nvSpPr>
            <p:cNvPr id="177" name="AutoShape 14"/>
            <p:cNvSpPr/>
            <p:nvPr/>
          </p:nvSpPr>
          <p:spPr>
            <a:xfrm>
              <a:off x="4934160" y="1987560"/>
              <a:ext cx="839520" cy="936720"/>
            </a:xfrm>
            <a:custGeom>
              <a:avLst/>
              <a:gdLst>
                <a:gd name="textAreaLeft" fmla="*/ 40680 w 839520"/>
                <a:gd name="textAreaRight" fmla="*/ 798840 w 839520"/>
                <a:gd name="textAreaTop" fmla="*/ 40680 h 936720"/>
                <a:gd name="textAreaBottom" fmla="*/ 896040 h 936720"/>
              </a:gdLst>
              <a:ahLst/>
              <a:rect l="textAreaLeft" t="textAreaTop" r="textAreaRight" b="textAreaBottom"/>
              <a:pathLst>
                <a:path w="21600" h="24100">
                  <a:moveTo>
                    <a:pt x="3600" y="0"/>
                  </a:moveTo>
                  <a:arcTo wR="3600" hR="3600" stAng="16200000" swAng="-5400000"/>
                  <a:lnTo>
                    <a:pt x="0" y="20500"/>
                  </a:lnTo>
                  <a:arcTo wR="3600" hR="3600" stAng="10800000" swAng="-5400000"/>
                  <a:lnTo>
                    <a:pt x="18000" y="241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4930920" y="2034720"/>
              <a:ext cx="86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6"/>
          <p:cNvGrpSpPr/>
          <p:nvPr/>
        </p:nvGrpSpPr>
        <p:grpSpPr>
          <a:xfrm>
            <a:off x="1619280" y="3716280"/>
            <a:ext cx="2303280" cy="936720"/>
            <a:chOff x="1619280" y="3716280"/>
            <a:chExt cx="2303280" cy="936720"/>
          </a:xfrm>
        </p:grpSpPr>
        <p:sp>
          <p:nvSpPr>
            <p:cNvPr id="180" name="AutoShape 17"/>
            <p:cNvSpPr/>
            <p:nvPr/>
          </p:nvSpPr>
          <p:spPr>
            <a:xfrm>
              <a:off x="1626480" y="3716280"/>
              <a:ext cx="2238120" cy="9367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8"/>
            <p:cNvSpPr/>
            <p:nvPr/>
          </p:nvSpPr>
          <p:spPr>
            <a:xfrm>
              <a:off x="1619280" y="3716280"/>
              <a:ext cx="23032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allele for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yellow petal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9"/>
          <p:cNvGrpSpPr/>
          <p:nvPr/>
        </p:nvGrpSpPr>
        <p:grpSpPr>
          <a:xfrm>
            <a:off x="4930920" y="3716280"/>
            <a:ext cx="865080" cy="936720"/>
            <a:chOff x="4930920" y="3716280"/>
            <a:chExt cx="865080" cy="936720"/>
          </a:xfrm>
        </p:grpSpPr>
        <p:sp>
          <p:nvSpPr>
            <p:cNvPr id="183" name="AutoShape 20"/>
            <p:cNvSpPr/>
            <p:nvPr/>
          </p:nvSpPr>
          <p:spPr>
            <a:xfrm>
              <a:off x="4934160" y="3716280"/>
              <a:ext cx="839520" cy="936720"/>
            </a:xfrm>
            <a:custGeom>
              <a:avLst/>
              <a:gdLst>
                <a:gd name="textAreaLeft" fmla="*/ 40680 w 839520"/>
                <a:gd name="textAreaRight" fmla="*/ 798840 w 839520"/>
                <a:gd name="textAreaTop" fmla="*/ 40680 h 936720"/>
                <a:gd name="textAreaBottom" fmla="*/ 896040 h 936720"/>
              </a:gdLst>
              <a:ahLst/>
              <a:rect l="textAreaLeft" t="textAreaTop" r="textAreaRight" b="textAreaBottom"/>
              <a:pathLst>
                <a:path w="21600" h="24100">
                  <a:moveTo>
                    <a:pt x="3600" y="0"/>
                  </a:moveTo>
                  <a:arcTo wR="3600" hR="3600" stAng="16200000" swAng="-5400000"/>
                  <a:lnTo>
                    <a:pt x="0" y="20500"/>
                  </a:lnTo>
                  <a:arcTo wR="3600" hR="3600" stAng="10800000" swAng="-5400000"/>
                  <a:lnTo>
                    <a:pt x="18000" y="241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4930920" y="3763440"/>
              <a:ext cx="86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22"/>
          <p:cNvSpPr/>
          <p:nvPr/>
        </p:nvSpPr>
        <p:spPr>
          <a:xfrm>
            <a:off x="3994200" y="198864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3995640" y="373500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Genotypes and pheno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611280" y="105264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genes of the plant are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enoty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11280" y="1628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it looks like is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henoty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611280" y="23493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the phenotypes of these genotyp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826920" y="2924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o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709560" y="3989520"/>
            <a:ext cx="22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eno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3132000" y="2895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6804000" y="28814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005440" y="28843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rcRect l="34360" t="18898" r="34360" b="18898"/>
          <a:stretch/>
        </p:blipFill>
        <p:spPr>
          <a:xfrm>
            <a:off x="4819680" y="3325680"/>
            <a:ext cx="1638360" cy="2368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"/>
          <p:cNvPicPr/>
          <p:nvPr/>
        </p:nvPicPr>
        <p:blipFill>
          <a:blip r:embed="rId2"/>
          <a:srcRect l="41231" t="18898" r="34360" b="18898"/>
          <a:stretch/>
        </p:blipFill>
        <p:spPr>
          <a:xfrm>
            <a:off x="3214800" y="3357720"/>
            <a:ext cx="1278000" cy="2368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"/>
          <p:cNvPicPr/>
          <p:nvPr/>
        </p:nvPicPr>
        <p:blipFill>
          <a:blip r:embed="rId3"/>
          <a:srcRect l="41231" t="18898" r="34360" b="18898"/>
          <a:stretch/>
        </p:blipFill>
        <p:spPr>
          <a:xfrm>
            <a:off x="6961320" y="3357720"/>
            <a:ext cx="12776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23:18:30Z</dcterms:created>
  <dc:creator/>
  <dc:description/>
  <dc:language>en-US</dc:language>
  <cp:lastModifiedBy>David Harrison</cp:lastModifiedBy>
  <dcterms:modified xsi:type="dcterms:W3CDTF">2021-02-24T15:27:24Z</dcterms:modified>
  <cp:revision>14</cp:revision>
  <dc:subject/>
  <dc:title>Slide 1</dc:title>
</cp:coreProperties>
</file>